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741-A633-4DC0-BF2D-29CDE063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271-800E-482B-85BA-282B74F0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2F2-27DF-427C-A0E5-85902641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290B-9881-4833-B0BB-05EBA54A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993-8714-431F-A450-0BFAFE65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57FA-C8F8-41EE-8B61-0A94A393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2EF8-ED1D-4D3E-A8BE-45AE1ED3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3585-2AF8-4712-A644-99B5F1B1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5E-1F2D-4B5D-9A70-F32904B5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DBB-289D-4F76-B039-BB07134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A52-D6E0-438D-B8BE-EFB6FD87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C10-5506-4E48-8102-15E0D39A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F14-E58E-4891-9C25-7C0EFC95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3D7-94C3-48F8-B764-A33500C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9D0-1E2B-4DB8-8F05-5EBB2CA7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9CC-2690-4399-85B3-1A5F107A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46E-7031-4601-B439-BF65C00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804-AF75-483F-8C1C-2B9F8FA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AC7-4BBC-4FA1-A0B8-87485E3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DA3-9417-4606-976C-99FF0931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F08F-CA7A-4872-82C0-B1101D28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vis.com/en/photoshop-tips/editing-tools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rter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airs brainstorm one of the key skills development areas we have covered alr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back and apply one aspect at least to your AS and/or A2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have your post-production skills developed from AS to A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What to leav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your AS and your A2 productions. Mak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id you make a  decision about what photographs to use for your music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id you make a decision about what footage to use and leave out for your film trai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 at your work on the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imperative that you look closely at your wiki pages and make notes on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your work and make further notes in your book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morrow: Practice questions Sectio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A- pos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B –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557000"/>
            <a:ext cx="4248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r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‘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ost-production’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echniques have been used to create this mag front cover?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post-it notes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4427640" y="692280"/>
            <a:ext cx="40482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etical Evaluation-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-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70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: to discuss how your post-production skills have developed from AS to 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ost-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production is everything that is done after the production phase (photography, filming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final stage of constructing your ‘raw images/footage’ into a finished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are the main elements to post produ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udio-visual 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ing the raw filmed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ing and dubbing on sound (if fil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ing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titles and other after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and manipulating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ing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yout design, including placement of tex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kvis.com/en/photoshop-tips/editing-tools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557360"/>
            <a:ext cx="3961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editing decisions were made when creating this front c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4427640" y="692280"/>
            <a:ext cx="40482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0000"/>
                </a:solidFill>
                <a:latin typeface="Arial"/>
              </a:rPr>
              <a:t>Film editing-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AS year we studied editing for the TV drama section of the ex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is often thought of a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of cutting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of coordinating and connecting one shot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can be split into two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xtaposition and length of sh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ing ed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the editing help to create audience meaning in th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iler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ion and sequencing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of transitions an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ound ed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w write 2 paragraphs, discussing how the editing makes meaning for the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production 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is question it is vital that you compare across AS and 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hat could you have done differently during the post-production stage of your production work? Discu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ught about the editing/construction of mag before filming/photo sh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en more careful/organised in the selection of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 more practice on the software. Shared the burden of editing –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ed closely at professional work- often we only look at pro work during the planning st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Editing-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ing raw foo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loading to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ng footage – EDL (edit decision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ting selected footage (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ing Premiere/Final Cut Pro/Vega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ing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ing music and dragging onto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ging clips onto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tting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ing clips on timeline into a rough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effects and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7:57:44Z</dcterms:created>
  <dc:creator> </dc:creator>
  <dc:description/>
  <dc:language>en-US</dc:language>
  <cp:lastModifiedBy>Theo</cp:lastModifiedBy>
  <dcterms:modified xsi:type="dcterms:W3CDTF">2013-04-18T10:37:56Z</dcterms:modified>
  <cp:revision>18</cp:revision>
  <dc:subject/>
  <dc:title>Theoretical Evaluation</dc:title>
</cp:coreProperties>
</file>